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3A7-D6EC-463C-B74B-467CDC92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BA3-6E37-4FA3-92A9-D4C1C5C7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1B2-97CC-4A6B-9FF8-A4C5ABB1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1D1-93F6-49C3-9209-4F30663D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B94-AADD-4B89-887F-698076CD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071-B4E4-4405-A77E-2EB2E452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97B-C1EF-4116-8DBE-34AC314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2A8-9A48-4071-A341-F57DFC22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241-C14F-48F2-B3A2-7CA9B04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DB8-D03F-4863-8966-22948F04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C37-8A19-4899-AC39-343EA92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378-A406-47C5-8EBB-21BF4099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75D1-7ACC-4739-B85E-9A038936E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3 Chcem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dnes, Pane, veleb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obzvlášť dne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sobot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uch tvoj ma mocne oslov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elého nech ma posvä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ochotnej sl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e, obe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Arial"/>
              </a:rPr>
              <a:t>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uša Pá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Times New Roman"/>
              </a:rPr>
              <a:t>: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ťa dnes, Pane, veleb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s ľudom t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iem t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eň, ktorý ty si oddel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odpočinok posvä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Arial"/>
              </a:rPr>
              <a:t>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uša Pá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Times New Roman"/>
              </a:rPr>
              <a:t>: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esť, vďaka tebe patrí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ť novú deň čo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že smel som šesť dní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rac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to ti chcem dnes chvál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Arial"/>
              </a:rPr>
              <a:t>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uša Pá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Times New Roman"/>
              </a:rPr>
              <a:t>: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íš v duši mojej každý ru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e mi otvor, zbystri sluch;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hcem Slova tvojho počuť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oznať spásy vzácn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Arial"/>
              </a:rPr>
              <a:t>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uša Pá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Times New Roman"/>
              </a:rPr>
              <a:t>: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14:24Z</dcterms:modified>
  <cp:revision>23</cp:revision>
  <dc:subject/>
  <dc:title>Je veľký náš Pán, on slávy je Kráľ Nech do všetkých strán  spev vrúcnych znie chvál.</dc:title>
</cp:coreProperties>
</file>